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6948-DA32-48CA-81A8-B096E6F84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5B53-FAB9-4DD4-A4B0-2D4E164DC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E664-F92C-4071-8E7B-383FF15E2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1E1C-6422-43EB-9B1C-B67E17FA3E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2B885-EF68-4E19-8C45-0DBF778572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42E6-4EE2-49B8-9B03-F27F87892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F22AC-A5A4-4361-A97B-21A24D079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1F2A-0DD0-4BA0-8469-BA35CC35B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E52C-D957-41E8-B8BC-9C2DD49A8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98F0-0B57-48E6-892B-3DE035F08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7C0A-F87C-4F5C-A1D9-CB816499D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7C20-46BC-447F-879D-D2265D0C9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3B32-3E6E-463F-B1BC-E03E3619806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A594-4676-4F09-9649-B588D454F8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0FE6-0E38-4A7B-9F64-9E87FC110A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F32F3-3374-4ACE-ACCD-630ECC6283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48BE-9DFF-454C-B071-94AA373677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CC7D-78BC-476F-95DD-D647B680DA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051F-1B3C-4145-9574-35BEC9BD84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0D7E-A82A-48E8-B782-770BA3833E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6452-BA4F-491C-B9C0-93AF2410F3B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9D88-D2C3-420F-853F-E5EADA1C6C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5EC7A-A3C8-4ACB-BB10-6A4C28043D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62A4-8F5A-4A83-B99B-980E377D35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D52F-7638-4C6C-A998-87FE56B960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5878-639D-45C4-A84E-5598862945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CEF2-D9E6-4BD7-AB6D-883DA2DAD9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BF47-07C3-428E-BBE9-8B66319D56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A1BE2-4E8C-4524-9FF5-6A6ED64989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87A9-2084-4A42-8EEA-5B038E37AA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F2A3-C040-4F4A-B0CB-D8B3B90CCE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CF55-C2EF-4BA2-86B3-6E2CC9F4CF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5C61-2A22-4187-A6CE-92863B7FD14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D04B-2707-4B07-B8D4-D726578335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51B0-FD02-463B-9C92-B37709BAD53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5D54-897D-479C-BB92-AEA02B51B45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2B8E-087B-4818-B09D-1207F5B3279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C606-FF6F-40BC-9FB3-B746F2D4AC3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E9F7-3787-4792-8267-4A3C43FB783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D1922-6B12-40D7-B431-7C23096742F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265C-563D-4D72-A90E-6E133A78648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EFC2-D8CC-4BA0-A298-BDCC6BED257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CBF3-FC9E-4083-ADF2-F10AB4ED84C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5D62-8CA6-4DD6-B589-D52B4F62D47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E82D-A8DD-4A1F-BC92-50FBD5B3F4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2F8C-4F7B-4D1D-B44B-4B5136B4CB7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8D98-B758-4622-8693-C0BC3BE95EA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1767-C5C0-4DF4-9232-A3619519B8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AF1A-1204-43E5-8D4E-607CF126D3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CB92-0419-494A-9CC6-A0EE1591D0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26EE-6B6A-4C3F-A119-1AD40B8032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82F6-F902-453D-BFF0-57F1EF8087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2-11T19:51:05Z</dcterms:modified>
  <cp:revision>101</cp:revision>
  <dc:subject/>
  <dc:title>Slide 1</dc:title>
</cp:coreProperties>
</file>