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3E9AB-08D6-4C5D-876A-A6D996799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E0F25-0A2C-46C1-A83F-F2032D472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F5190-26D7-4DC4-A703-7267D77A01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64C35-4A67-4926-8854-4B00C62C68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8136C-D078-4B42-9FC1-7CD02E4EAD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83E65-5A7A-4C25-B49C-6EFC419717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88901-B986-470E-86B6-97F6C725E0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BD8D9-3F3E-4666-95CF-F9D8C85028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61C97-A4B2-4F0A-BB9B-20059455D6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D9D90-A152-4CE9-9941-0C30FCAED8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35DCC-5AE7-4BD3-93E5-0D9C5316D8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43E15-4C7F-46B6-89ED-DA1E6FDCF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543880" y="6242040"/>
            <a:ext cx="600120" cy="615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581280" y="6597720"/>
            <a:ext cx="5105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DSI Technical Conference 2007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acramento, CA  USA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ctober 18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6248520"/>
            <a:ext cx="685800" cy="6094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477120" y="6324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n t e l l i g e n t  T o o l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4e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8534160" y="5790960"/>
            <a:ext cx="609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41CA-1F77-4CD3-8C82-5CDE618F20B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7.png"/><Relationship Id="rId14" Type="http://schemas.openxmlformats.org/officeDocument/2006/relationships/image" Target="../media/image9.png"/><Relationship Id="rId15" Type="http://schemas.openxmlformats.org/officeDocument/2006/relationships/image" Target="../media/image18.png"/><Relationship Id="rId16" Type="http://schemas.openxmlformats.org/officeDocument/2006/relationships/image" Target="../media/image13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6386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Present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Miguel Esco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nergetic Data Systems, Inc.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400480"/>
            <a:ext cx="8534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859"/>
                </a:solidFill>
                <a:latin typeface="Arial"/>
              </a:rPr>
              <a:t>Sess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09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6C6F6-DB2A-4D36-97DF-2C82B6FAE0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24480" cy="2847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4C9DB-4026-4AC0-A47F-683E69C2B4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4057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845D3-201C-4BB5-83A0-C4749D1F57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8028000" cy="319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C6065-608A-41B1-B6A2-4C909E2940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14400" y="1257480"/>
            <a:ext cx="8008920" cy="4343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F2FCF-0779-40C4-8EC4-4F4382DA48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7027920" cy="2152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125CF-08E6-463A-AC30-E54F9750B0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eliv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(s)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subjob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n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y “properties”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email and fax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9F3C7-59D5-41F6-B35A-86C5171CA7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93A45-A39B-4A2D-A650-19BC290C1E0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y Methods:  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copy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0AE7F-9545-4942-8A0B-0DC70941BA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ieval Metho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fixed lo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delimited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v textfile looku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BC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AFA38-A067-428A-AFDD-3DC03CB54B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3FE22-2518-4129-A4F9-CB273D5074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Outli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component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templatize rule-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x featu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4E106-45D7-4BFA-B563-0E71A655BA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3506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B30A9-A0D1-4415-870B-3A9092BFE8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/ Doc ID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25207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0F3F0-BA68-4BC2-8540-CA76B0EDBE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3000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394EB-EED8-4F3F-B10E-E1BE878C84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Specific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4344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10F2D-694B-4CBB-ADFF-C991396046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5867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185840"/>
            <a:ext cx="7772400" cy="4484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4989B-CAD3-4A05-B398-C213364B605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Overrid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2860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89123-77BB-4E03-B758-8C9302F6210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914400" y="1324080"/>
            <a:ext cx="5581800" cy="42098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C3B04-043D-4E80-A030-806EC24F6F4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581800" cy="26953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D8088-FFF6-48CE-BE19-1032B27434F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914400" y="1185840"/>
            <a:ext cx="5572080" cy="44863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AEBDE-5846-4E5C-A850-DBDA14D6910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3867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7D1EE-B075-4779-8076-2A4F89C46D5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31BD5-518F-4246-95CA-B1A20A0A640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38880" cy="513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CCD81-5681-4E9B-9914-E101564F472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914400" y="3403440"/>
            <a:ext cx="7543800" cy="2759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F9D74-65C5-4F3E-9D29-FBD00B65A54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315200" cy="3645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914400" y="1219320"/>
            <a:ext cx="5181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C53B0-C506-43DA-A876-7E789C1E1DA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7580160" cy="24382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719280" y="1981080"/>
            <a:ext cx="7510320" cy="4224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D895F-7C9D-4A8D-9B92-73C974EAB65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4857840" cy="44672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042F1-3E9E-402A-BE5F-75B1DF44A73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eliver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ahun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055 lines of codeblock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delivery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ail / fax / las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ultaneously for same do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templates swap in/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address retrieval methods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sence” of eDelivery only 1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2133720"/>
            <a:ext cx="2819520" cy="2228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decfc0"/>
                </a:solidFill>
                <a:latin typeface="Arial"/>
              </a:rPr>
              <a:t>INDEPENDENC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INTAIN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838080"/>
            <a:ext cx="365760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49598-8C89-4617-A9AC-B3D22F24A33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3467160" cy="5238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486400" y="15238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 tha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K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50990-314C-4A2D-B16F-22E576583F6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62440" cy="4733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400800" y="1219320"/>
            <a:ext cx="228600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y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stor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48A21-D5E8-4742-8EED-5691F783A06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48240" cy="53434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400800" y="1219320"/>
            <a:ext cx="22860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exec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delive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clos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CC830-167B-44B0-B903-7001F455059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3429000"/>
            <a:ext cx="3352680" cy="228744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n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of Se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460B1-5B93-4500-A2ED-BB4EC06627BC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4724280" y="152280"/>
            <a:ext cx="914400" cy="507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3809880" y="152280"/>
            <a:ext cx="828720" cy="514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57600" y="38088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3809880" y="3352680"/>
            <a:ext cx="1295640" cy="285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95760" y="343080"/>
            <a:ext cx="0" cy="110484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3"/>
          <a:stretch/>
        </p:blipFill>
        <p:spPr>
          <a:xfrm>
            <a:off x="800280" y="4933800"/>
            <a:ext cx="1581120" cy="133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4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5"/>
          <a:stretch/>
        </p:blipFill>
        <p:spPr>
          <a:xfrm>
            <a:off x="533520" y="3581280"/>
            <a:ext cx="1847880" cy="1667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6"/>
          <a:stretch/>
        </p:blipFill>
        <p:spPr>
          <a:xfrm>
            <a:off x="2514600" y="4114800"/>
            <a:ext cx="1219320" cy="30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7"/>
          <a:stretch/>
        </p:blipFill>
        <p:spPr>
          <a:xfrm>
            <a:off x="2381400" y="4533840"/>
            <a:ext cx="780840" cy="1733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8"/>
          <a:stretch/>
        </p:blipFill>
        <p:spPr>
          <a:xfrm>
            <a:off x="3886200" y="3733920"/>
            <a:ext cx="3429000" cy="24699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62360" y="152280"/>
            <a:ext cx="3429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9"/>
          <a:stretch/>
        </p:blipFill>
        <p:spPr>
          <a:xfrm>
            <a:off x="6095880" y="762120"/>
            <a:ext cx="2746440" cy="2243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0"/>
          <a:stretch/>
        </p:blipFill>
        <p:spPr>
          <a:xfrm>
            <a:off x="5105520" y="5486400"/>
            <a:ext cx="3733560" cy="54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276720" y="990720"/>
            <a:ext cx="6094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838080"/>
            <a:ext cx="1828800" cy="39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 rule-file, rule-s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extensions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07970-BE86-4B25-ACF7-3197CAA6457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emplate/shell, why parallel rule 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command allows us to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cy from code replication, “cloning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ty - Maintenance and configuration independent of enhancement rules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703DE-6E37-49F7-9E35-702E26E04E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x features used in “e” rules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option on ge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filefield function for retrieval meth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Support Server (w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fax accessibility via msfax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BC functions for retrieval method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connect, db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file, getdocidprop, putdocidpr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C87BC-9A7C-4A69-993C-688F1DCC0D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archive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ve document properties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archive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24108-912D-449E-B780-74FD17D299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9F952-C270-42CD-8684-73F06AB0F0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6334200" cy="4305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5DEC4-8072-49D2-9664-3D91C6F5B9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20:43:10Z</dcterms:created>
  <dc:creator>Miguel J. Escobar</dc:creator>
  <dc:description/>
  <dc:language>en-US</dc:language>
  <cp:lastModifiedBy>Miguel J. Escobar</cp:lastModifiedBy>
  <dcterms:modified xsi:type="dcterms:W3CDTF">2007-10-17T01:07:11Z</dcterms:modified>
  <cp:revision>100</cp:revision>
  <dc:subject/>
  <dc:title>Slide 1</dc:title>
</cp:coreProperties>
</file>